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6AFB-5079-40F1-BA53-AECC0D4280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5B46-0F6E-45A9-80DC-EABC051457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6FEE-A2E4-4E05-A5BC-D8E33F11E6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59EB-2191-4F2C-861E-8AC6BA997F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B671-BA21-4BFB-A2A8-811F3FC43B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1FE2-02AD-4D7C-9ADB-6929FA0288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FB7-019C-4110-92BE-1BA140D1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D5F-64FF-42C5-B9E4-C9E0A15F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DA5-4EF8-4832-B346-1E9CADEB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136-2E5B-4DDE-A7D6-3A689C14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D52-23C8-4CB5-A384-1E7B8D0D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D42-9641-4A05-9818-FD5416E6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B36-2364-437F-94A0-6B81F3A0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71E-AE94-4CE8-AC64-7E2F895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126-A61C-422E-BA95-36159C61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924-112D-4BA6-AF26-123BD75E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3B3-D3ED-4F22-A5B8-237A5220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F53-DF00-4AE1-92FF-5E6A2C05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F28A-7C18-4092-A0B0-038F650157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709560"/>
            <a:ext cx="77724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-Bold"/>
              </a:rPr>
              <a:t>marianne schul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-Bold"/>
              </a:rPr>
              <a:t>human rights consult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</a:rPr>
              <a:t>m.s@humanrightsconsultant.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</a:rPr>
              <a:t>www.humanrightsconsultant.a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  <a:ea typeface="Akkurat"/>
              </a:rPr>
              <a:t>        </a:t>
            </a:r>
            <a:r>
              <a:rPr b="0" lang="de-DE" sz="1700" spc="-1" strike="noStrike">
                <a:solidFill>
                  <a:srgbClr val="000000"/>
                </a:solidFill>
                <a:latin typeface="Akkurat"/>
                <a:ea typeface="Akkurat"/>
              </a:rPr>
              <a:t>@hrmaz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553080" y="0"/>
            <a:ext cx="1782720" cy="2133720"/>
          </a:xfrm>
          <a:prstGeom prst="rect">
            <a:avLst/>
          </a:prstGeom>
          <a:ln w="0">
            <a:noFill/>
          </a:ln>
        </p:spPr>
      </p:pic>
      <p:sp>
        <p:nvSpPr>
          <p:cNvPr id="50" name="Line 7"/>
          <p:cNvSpPr/>
          <p:nvPr/>
        </p:nvSpPr>
        <p:spPr>
          <a:xfrm>
            <a:off x="609480" y="6094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33520" y="2743200"/>
            <a:ext cx="80769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Best interest of every learner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bat         January 20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*everyone in the education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d 1" descr="Screen Shot 2014-06-20 at 10.02.51 AM.png"/>
          <p:cNvPicPr/>
          <p:nvPr/>
        </p:nvPicPr>
        <p:blipFill>
          <a:blip r:embed="rId2"/>
          <a:stretch/>
        </p:blipFill>
        <p:spPr>
          <a:xfrm>
            <a:off x="611280" y="2060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762120" y="60958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marianne schulze 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         www.humanrightsconsultant.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14624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kkurat"/>
                <a:ea typeface="Akkurat"/>
              </a:rPr>
              <a:t>Education is a human righ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kurat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kkurat"/>
              </a:rPr>
              <a:t>Everyone has the right to education.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kkurat"/>
              </a:rPr>
              <a:t>-- Article 26 Universal Declaration of Human Right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kurat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kkurat"/>
              </a:rPr>
              <a:t>Elimination of ignorance and illiteracy throughout the world.”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kkurat"/>
              </a:rPr>
              <a:t>-- Article 28 (2) Child Rights Convent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2120" y="60958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marianne schulze 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         www.humanrightsconsultant.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14624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kkurat"/>
              </a:rPr>
              <a:t>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Intelle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Soci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Econom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kkurat"/>
              </a:rPr>
              <a:t>Struc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62120" y="60958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marianne schulze 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kkurat"/>
              </a:rPr>
              <a:t>         www.humanrightsconsultant.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14624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kkurat"/>
                <a:ea typeface="Akkurat"/>
              </a:rPr>
              <a:t>EVERY Learner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kkurat"/>
              </a:rPr>
              <a:t>Access an inclusive, quality and free primary education and secondary education on an equal basis with others in the communities in which they live;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kkurat"/>
              </a:rPr>
              <a:t>-- Article 24 (2)(b) CRPD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*everyone in the education syste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520" y="709560"/>
            <a:ext cx="77724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-Bold"/>
              </a:rPr>
              <a:t>marianne schul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-Bold"/>
              </a:rPr>
              <a:t>human rights consult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</a:rPr>
              <a:t>m.s@humanrightsconsultant.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</a:rPr>
              <a:t>www.humanrightsconsultant.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kkurat"/>
                <a:ea typeface="Akkurat"/>
              </a:rPr>
              <a:t>       </a:t>
            </a:r>
            <a:r>
              <a:rPr b="0" lang="de-DE" sz="1700" spc="-1" strike="noStrike">
                <a:solidFill>
                  <a:srgbClr val="000000"/>
                </a:solidFill>
                <a:latin typeface="Akkurat"/>
                <a:ea typeface="Akkurat"/>
              </a:rPr>
              <a:t>@hrmaz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553080" y="0"/>
            <a:ext cx="178272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Line 4"/>
          <p:cNvSpPr/>
          <p:nvPr/>
        </p:nvSpPr>
        <p:spPr>
          <a:xfrm>
            <a:off x="609480" y="6094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14400" y="32004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kkurat"/>
              </a:rPr>
              <a:t>Thank you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ild 1" descr="Screen Shot 2014-06-20 at 10.02.51 AM.png"/>
          <p:cNvPicPr/>
          <p:nvPr/>
        </p:nvPicPr>
        <p:blipFill>
          <a:blip r:embed="rId2"/>
          <a:stretch/>
        </p:blipFill>
        <p:spPr>
          <a:xfrm>
            <a:off x="611280" y="2060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20:41Z</dcterms:created>
  <dc:creator>marianne schulze</dc:creator>
  <dc:description/>
  <dc:language>en-US</dc:language>
  <cp:lastModifiedBy>Rkia CHAFAQI</cp:lastModifiedBy>
  <cp:lastPrinted>2011-02-16T19:09:15Z</cp:lastPrinted>
  <dcterms:modified xsi:type="dcterms:W3CDTF">2019-01-04T09:15:16Z</dcterms:modified>
  <cp:revision>79</cp:revision>
  <dc:subject/>
  <dc:title>PowerPoint-Präsentation</dc:title>
</cp:coreProperties>
</file>